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AE9-5E70-4E04-B2D2-B8347F63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149-5A04-4FDC-885A-309D65D7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904-A13E-48FB-A946-35EB3DB8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A5-EC01-4D40-9AD1-3115483F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051-9C73-49CC-9648-FCE9D80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30D-0D12-4D8D-8F67-1BCF6DF4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225-7EE0-452D-9CCC-30DD7BC5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5AA-5169-46EE-946C-66EC7670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84B-CB7B-4177-BE1E-40889CC8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3F4-8010-4785-86C9-9D2FBE8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053-1039-4A8A-ABD4-E571B71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457-59ED-43C3-A48C-7D33404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B1A430A-928B-4C98-8FC0-2AFFAED21348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雷设施及接地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接地装置的运行与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49600" y="113364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588480" y="123840"/>
            <a:ext cx="1967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接地装置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3" descr="一般规定"/>
          <p:cNvPicPr/>
          <p:nvPr/>
        </p:nvPicPr>
        <p:blipFill>
          <a:blip r:embed="rId2"/>
          <a:stretch/>
        </p:blipFill>
        <p:spPr>
          <a:xfrm>
            <a:off x="1046160" y="1184400"/>
            <a:ext cx="578340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4350240" y="1364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880920" y="6476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880920" y="273060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8" descr="例行巡视"/>
          <p:cNvPicPr/>
          <p:nvPr/>
        </p:nvPicPr>
        <p:blipFill>
          <a:blip r:embed="rId2"/>
          <a:stretch/>
        </p:blipFill>
        <p:spPr>
          <a:xfrm>
            <a:off x="1155600" y="1260360"/>
            <a:ext cx="5781600" cy="1457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" descr="全面巡视"/>
          <p:cNvPicPr/>
          <p:nvPr/>
        </p:nvPicPr>
        <p:blipFill>
          <a:blip r:embed="rId3"/>
          <a:stretch/>
        </p:blipFill>
        <p:spPr>
          <a:xfrm>
            <a:off x="1235160" y="3408480"/>
            <a:ext cx="585468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4350240" y="1364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880920" y="65412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1" descr="特殊巡视"/>
          <p:cNvPicPr/>
          <p:nvPr/>
        </p:nvPicPr>
        <p:blipFill>
          <a:blip r:embed="rId2"/>
          <a:stretch/>
        </p:blipFill>
        <p:spPr>
          <a:xfrm>
            <a:off x="1179360" y="1254240"/>
            <a:ext cx="5811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5"/>
          <p:cNvSpPr/>
          <p:nvPr/>
        </p:nvSpPr>
        <p:spPr>
          <a:xfrm>
            <a:off x="4350240" y="1364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880920" y="592200"/>
            <a:ext cx="22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网开挖抽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880920" y="2587680"/>
            <a:ext cx="22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引下线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2" descr="接地网开挖抽检"/>
          <p:cNvPicPr/>
          <p:nvPr/>
        </p:nvPicPr>
        <p:blipFill>
          <a:blip r:embed="rId2"/>
          <a:stretch/>
        </p:blipFill>
        <p:spPr>
          <a:xfrm>
            <a:off x="1211400" y="1217520"/>
            <a:ext cx="6040440" cy="13413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4" descr="接地引下线维护"/>
          <p:cNvPicPr/>
          <p:nvPr/>
        </p:nvPicPr>
        <p:blipFill>
          <a:blip r:embed="rId3"/>
          <a:stretch/>
        </p:blipFill>
        <p:spPr>
          <a:xfrm>
            <a:off x="1211400" y="3227400"/>
            <a:ext cx="61578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5"/>
          <p:cNvSpPr/>
          <p:nvPr/>
        </p:nvSpPr>
        <p:spPr>
          <a:xfrm>
            <a:off x="4350240" y="1364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880920" y="596880"/>
            <a:ext cx="22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导通测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5" descr="接地导通测试"/>
          <p:cNvPicPr/>
          <p:nvPr/>
        </p:nvPicPr>
        <p:blipFill>
          <a:blip r:embed="rId2"/>
          <a:stretch/>
        </p:blipFill>
        <p:spPr>
          <a:xfrm>
            <a:off x="1211400" y="1214280"/>
            <a:ext cx="597204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71400" y="681120"/>
            <a:ext cx="261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引下线接地不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0" descr="接地引下线接地不良"/>
          <p:cNvPicPr/>
          <p:nvPr/>
        </p:nvPicPr>
        <p:blipFill>
          <a:blip r:embed="rId2"/>
          <a:stretch/>
        </p:blipFill>
        <p:spPr>
          <a:xfrm>
            <a:off x="1054080" y="1208160"/>
            <a:ext cx="5985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33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5:45Z</dcterms:modified>
  <cp:revision>5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